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5280-EDAA-4E05-9C05-457182BA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D217-7BC2-4A9E-B3E4-5FA89374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8B1B-3AFB-4387-9476-B30B6C40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967-4752-4E2C-B759-39370E4A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0581-F951-437A-8565-BA980641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B0C1-57CA-406C-9A62-F7BCA180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DA07-698E-40A4-804B-31EB2676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F718-ACA2-410F-A074-47D9899A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C83-5940-41AE-93A4-ADB9CC76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1A7-EFEC-4F38-9ACE-C94C00A8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A16E-DBE2-4149-99CF-8B64F0A7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592-5566-4307-A582-50F70DB2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1C4E-7E2F-4063-9027-86B7AD380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BIA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391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086600" cy="3195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905120" y="4114800"/>
            <a:ext cx="3657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91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9T14:59:32Z</dcterms:modified>
  <cp:revision>95</cp:revision>
  <dc:subject/>
  <dc:title>The Art in the State of the Art</dc:title>
</cp:coreProperties>
</file>